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C56-429D-4686-9B72-EFA1BF48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EAB-47F8-409C-B7BC-1F9DF189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3C5D9-A295-4B09-94E2-2ACE18A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08679-4420-4EB1-B3D9-20EF2F2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B438B-CF04-4E72-8F1D-D2EE7E99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1DC9D-C17C-4355-93D6-EBA902C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BADAE-ACB1-4E61-B093-5A09CF9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D62AF-3F25-4B11-A2E6-13D27D8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D5562-D905-45A0-B0AF-0F23F40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510AD-18E1-4EB1-8EE1-8706B42C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FA5C-F331-43CC-A36D-D4083814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6F726-227E-47E3-9034-E097C708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E12-C97C-43FF-805A-01D09D03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0B775-B9EF-42B2-B027-29265CB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C225D-8CD8-4C00-9797-D4858D5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F4377E-BA4D-449E-B851-449E2FB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677828-93C0-44A4-934A-834A4A5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5EA7E8-CFA1-4800-BF3A-3C1EB689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63315-ADB2-4EC9-A9CC-C452060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F8721-AF10-4C2A-AF6A-8135DDC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EDE931-0BD8-4BE9-825B-08C99A1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4B1403-F7DF-40DF-84C4-8A9ECDCA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3510D-65D4-4930-BD42-B3612DCE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0BD-F578-497A-944C-FE3D4F4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BC0F18-92F1-4880-8F0C-B40A3932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13B7-9D3D-4F4D-BAAD-168D5308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220A-AE05-4DEA-8063-4C288657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9A58-1054-402F-A28F-99FE63C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B8D26-BD7C-486E-94BF-E4A966D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A3DC-1D2D-43F4-B4D3-9713F81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65EE3-710A-4ECF-B999-8F261274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016DD-0704-470E-A245-FE381F9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0A74A-A7C2-4E57-AB0D-17D6F62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7E58C-4CD6-44C0-8B13-FF4D215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29F-C2F1-4C64-897C-FE094E02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CD411-F205-439D-A58C-8AF75F04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79E68-42E3-411F-B5DB-B7D94AEF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6596-138E-401F-B543-CC0D1E2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E591E-AEB2-4D3A-9EA6-FFFA049B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9EFBF-1A94-4EAE-805C-FACECD3F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E6DB4-E4AA-4D86-BA0B-D32556D7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09C0A-23C6-4255-B2E0-4F704F8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F8F1D-5B23-4285-8F5D-D7469F8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7CCFD-F9A0-404A-B229-44A7C57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AD8DB-4A4F-42DC-B060-826612D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FDC-ADCA-446F-B51B-B4D2D2C4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E6778-7402-4BC0-9BC1-B823AD5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3843A-ACDE-484F-8C44-2A3FC5B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C6F3D-D368-40CC-8F11-16DED33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51048-3FF0-424F-9811-BCDE2538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BB107-3344-47EF-8302-BCEE58BA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20215-9DB6-4E93-B922-EBD776C6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A42B05-5BCB-4080-947E-9394C9F8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D4D6E-DA38-4EB3-B3D0-DFC41E95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21A03-177E-42D8-8C7C-29F58F1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C7FD1B-6A54-45CB-BDCE-C890EC4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0C1-9D20-4CCF-A156-0F1F66E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53FC8-3234-4B6E-89DC-E6A2D8A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E87E7A-D1DD-4F47-998F-E45DF97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26E82-A592-47E5-B40A-EC0D041E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70EB2-B50A-483A-9454-1BD1796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F56C3-29FF-4AC8-999A-FE052006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20E427-F89B-46D1-B997-5A99122A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4C1E1-AD89-4898-AC14-BBA92BD9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32B9A-02B6-4442-8D0A-6F479941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A07DA-2E74-4579-A001-AC1F6FD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2B253-E1A3-42B7-B2DE-0B85D687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D14-EE8D-4F6F-88B2-FDC89EA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44CB8-CAFE-4BDF-9D10-46101396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FD645-2171-41BB-98A3-F443BDB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C5959-48E2-477B-A1C7-31243A3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04528-8C6E-4A3E-BCCE-5DCD86B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58F98-C282-45A8-A38A-DA91141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D9230-6170-4A73-9F74-2ADED68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47268-D932-46D5-85F3-F9278D2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E1D54-89B7-44A7-B2DC-FD27FF02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DF698-C465-4371-8CBF-9BEB5BC2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C4DE9-8A41-489B-B5AF-858463EB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23E6-4D22-4567-8CCC-3E2A5AC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4E35D-98C4-49F5-84FF-B01FC07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93E6B-5E7D-4F71-9F20-3C664084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B4928-9DB8-4A47-83FA-2457F4B6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BE531-1168-4D19-844A-39CF7AE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17F14-D2C1-42C5-A6F0-FA7D0575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CB7A7-7190-4891-A2F3-51EF4C2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6503B-70ED-443B-A3EE-1E5435C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4A907-C9D3-49BF-A228-4AE4336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83270-C731-4C45-8DE3-C78A6A47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7B21A-4B26-449F-AD4E-2CA17CEE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401F-E013-406A-ABBE-D061F87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069FF-0291-4C10-A2A6-D7F70F7F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90EA-3CBF-4681-808D-6656092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24955-422A-4FBE-B811-E20FC37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2E7AD-02A7-4B4F-A4FF-58C5B01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9146F-74F9-4D4D-8CE3-3A8B48F7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005A7-9E7B-4A07-85D5-62F8E9A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C08F0-F24B-4E08-9F8A-8569EF5D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C553D-5250-4B2A-B316-E9887E5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1BCA6-ACBC-4A32-AAC2-0A371D3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990EB-8F45-411E-A841-924F890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F398-2B56-4137-BAB5-540E9F1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B51EC-D64F-4894-B361-F64F94D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04110-E50A-4565-8573-9203A6C8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2918A-147A-4BFC-B4B9-EFF0D046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69E99-32D0-4A9F-A0AB-677A6839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0157A-7841-47EB-B341-120E789E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5C726-E440-4BFB-BF1F-148E59FF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67EF2-1B12-4BBE-8FAA-D47FAAE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2A47E-9356-40EB-8E36-4333A5F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B3A87-7EC5-4320-9AB2-BC45AB4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29E2D-2242-4F09-A8E9-A3FD708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F80-CB97-4F69-9859-4EAA006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BDA-0C9A-4C75-945F-05237F5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8D46C-B944-4A3C-8768-1AACDDE1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5C9DD-9FF6-44E8-A6A5-6D1CAC8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53D47-DB4B-4AE5-A29E-80AF594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A54C2-D65F-41A5-A118-1FEC6B9C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84DCC-5AAE-4E30-87A1-74B8754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7CCDA-0927-4500-94AB-F347C389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CE8F7-8603-4B31-ABCF-C37D0D6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D1E53-90A5-4C12-A422-E0A9FC1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FD0B3-1E6F-448D-9E05-6607CBA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EA2A0-522A-4D5B-899A-5B25E66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424A-52A0-4A32-9A86-D2D7ED7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5195C-6325-448E-8A6A-AD1A35DB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72F67-1F61-4AE2-B262-4E189AE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415D5-6DCA-4A4D-BBFB-25D25AA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9B545-F17E-4A87-8A80-2FD7BF3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BA330-C991-42A2-9CA4-BB21B69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60DB7-B622-48F6-80D6-57CB90D6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D5248-7A86-4402-A727-2706BC83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726-E706-48AF-81FE-BA2ECFB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8BFF-7A69-4147-8992-C95C62B0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5388-6010-4028-BF1A-A4FC1793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BBFE-A73F-4B97-BC02-66876BD5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015A-9B9B-410E-A19C-F0A9A4F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D2DA-2D9A-410B-9A2C-F25F32E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4480-82EA-4D42-84F3-26DF869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026D-AC61-41A2-BB17-211CCF3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8AF-3BD2-4A4C-B42B-D3ADD00A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8FA0-7947-4FE6-A238-6C69296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7C04-5789-49D6-BC83-3FA74E8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B963-F8E4-466B-B1DA-62946A5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5748-1998-4A06-8D97-5DBCE3B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5ED0-B479-4163-9DC1-B1623AC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706E-E2C8-49A0-806A-6DDA676D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0D60-D271-4605-BCBB-76463250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14B9-A513-4D18-AB98-63816923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AC73-DF0A-4638-AF27-186681A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0C18-AF4D-407F-A6AE-E0E48F36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CCF-3DBB-41F1-8885-91D7EE63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05A0-B2A4-4186-9431-88D7867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37528-28AC-4168-8750-EDEC115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A7E7-1E36-4246-9C6E-0FE623F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2714-885B-47A3-8350-8920882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3DA0-A994-4846-BD3E-6CC26CF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75DF-CDD6-4B27-8852-519B4AC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F1FB-FB42-430B-86F4-C7C62F0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5FDC-A652-4822-85D8-9F83B6CC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BA0C-3F2C-47ED-8C4B-8309FA7D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19FBC-1438-485C-92E4-5BC3899F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58B-81E3-44CE-83C9-96FF4ED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1C23-0ECD-4DF6-9BDA-14BC443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A611-8CC5-4774-B890-6BDE97A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AC41-2D52-4424-8547-1553A0F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32D9-5C17-49C6-A43F-F7EF5EF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6313-0B34-4DD7-9325-3B26D4E6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CF2D-E815-4BB3-BC2D-ED8640D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3861-5135-49EE-834E-5FED9CB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7813-65C8-45D5-AD2C-02271E5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BB2F4-AFF9-462E-A864-BFE4422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101A-3879-4766-9D6F-141316F8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7DE-CE46-4919-BB58-3241F45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4656-6BE6-4B62-AD85-68E442C1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6C6B-1F84-45D2-B2F2-3FEE79AD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4748-F6CF-4070-8971-45A3D43B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EC09-3F36-4BCE-B142-DD9233EF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F7CBC-1FB2-4FE2-A058-3CE69784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2C35-CE9A-441A-BBD5-1E60920C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5316-8353-4A2A-BD31-FA8B19B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78B3-9DB1-4FEE-8391-2A917BD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F8D1-9B7A-40EE-BCCE-C8255F2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03585-08B2-4303-B13B-DC03A9C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EE1-0245-4DD9-AED1-5440809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D204-68EA-4E59-807F-C7B70601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DA0E-CC6C-4AA5-A65D-62307E4F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ECD6-C4FC-4354-AF2C-2E4439CC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C42B5-C86C-4E60-BA0C-0F2AD3A1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F852-50D6-4DC5-BAB0-535C0B1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2749-2F30-48F6-B60D-2D61030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4D00-E023-4793-9E40-2ECF01D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6CDF-1A87-4F63-93B5-A7105A08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6EDE2-9511-4D19-AD66-059A8100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4EB3-FA8A-4D4E-8CF2-C9C7DA3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D31-405F-48E7-A540-87DAFAD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1E34-6522-4535-8297-B661BEB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B3D1-496C-49D8-99E1-C2251A5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A242F-1CF0-4565-8AF7-B6F4B7E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9377-E917-448A-AF26-803869FA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E730-678C-49D6-B0E5-37C09D4F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6899-5CA9-487C-970A-8FFD0D9A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FB9E9-B5A7-46BF-8C95-4DE0E93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93E8-7CB3-472E-B3D6-0BA9F48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B018-E1D4-4876-B2A7-7E22243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EAC6C-473F-4F5E-AC29-84A403E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96D-DBF4-4027-A4EB-AD22F08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25E1-F1DE-4D1F-BA86-399097C1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ABB38-68B2-4090-A041-CC54217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2ECF-4DE7-4F4A-84F8-C6465BC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38BF-B0E2-42BD-8932-7D072E6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D37E-5A68-4DE5-8D27-DD59252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E3B8-FE01-4309-82E2-4DC84264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230E-05D6-43F2-BDFA-F9C4FC8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E8801-855A-48A5-A739-43F0E87C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08CA-E135-4F4C-9390-C8A0164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9478F-3486-4A66-A73A-90CFA22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A24-32AA-4CD6-A640-FB7985FC4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8E9-D079-47E2-B8A1-7046DE0B9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7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418-B5CB-4440-9876-4FFF1911C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7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0BB-E98B-4168-AD8F-CD1F16115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0F3B-0FC1-49BB-874E-07439D086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D43-718F-43C0-9AE6-19EC89A7D1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1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1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9ABB-BF5E-4F77-90ED-C25859F42A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6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004-A842-424E-988B-02BCEF006D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6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560-6823-4FC1-86EC-AAFF51F81C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82C-45D9-4990-83EC-10E7259232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29B-CFB5-4EE4-ABEA-737BCBAE3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06F-852C-4AAB-BAA2-CD84BD09C4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09E-A44B-4108-B308-7839F4D1DA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5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4789-2944-48BE-8F26-4FDB2084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798-ED4E-4F2C-8691-2261DB1C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23AE-1AA5-4178-8208-291594C1EE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7EE-F764-4AF4-A56F-88BAC68177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1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1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FCA-102D-4244-A69C-2DED3C18D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sse.ro/cms/rw/pages/index.ro.do" TargetMode="External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rketingcen.wikispaces.com/" TargetMode="External"/><Relationship Id="rId2" Type="http://schemas.openxmlformats.org/officeDocument/2006/relationships/hyperlink" Target="http://mkrb.21classes.com/" TargetMode="External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Aplicatie_elev/aplicatie_elev_siteweb.pdf" TargetMode="External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Imagini_sunete/Drepturi_de%20autor_autorizatii/Ce%20este%20dreptul%20de%20autor.doc" TargetMode="External"/><Relationship Id="rId2" Type="http://schemas.openxmlformats.org/officeDocument/2006/relationships/hyperlink" Target="file:///../Imagini_sunete/Drepturi_de%20autor_autorizatii/Ce%20este%20dreptul%20de%20autor.doc" TargetMode="External"/><Relationship Id="rId3" Type="http://schemas.openxmlformats.org/officeDocument/2006/relationships/hyperlink" Target="file:///Imagini_sunete/Drepturi%20de%20autor_autorizatii/haosul_dreptului_de_autor.pdf" TargetMode="External"/><Relationship Id="rId4" Type="http://schemas.openxmlformats.org/officeDocument/2006/relationships/hyperlink" Target="file:///Imagini_sunete/Drepturi%20de%20autor_autorizatii/haosul_dreptului_de_autor.pdf" TargetMode="External"/><Relationship Id="rId5" Type="http://schemas.openxmlformats.org/officeDocument/2006/relationships/hyperlink" Target="file:///Imagini_sunete/Drepturi%20de%20autor_autorizatii/haosul_dreptului_de_autor.pdf" TargetMode="External"/><Relationship Id="rId6" Type="http://schemas.openxmlformats.org/officeDocument/2006/relationships/hyperlink" Target="file:///Imagini_sunete/Drepturi%20de%20autor_autorizatii/haosul_dreptului_de_autor.pdf" TargetMode="External"/><Relationship Id="rId7" Type="http://schemas.openxmlformats.org/officeDocument/2006/relationships/hyperlink" Target="file:///Imagini_sunete/Drepturi%20de%20autor_autorizatii/haosul_dreptului_de_autor.pdf" TargetMode="External"/><Relationship Id="rId8" Type="http://schemas.openxmlformats.org/officeDocument/2006/relationships/hyperlink" Target="file:///Imagini_sunete/Drepturi%20de%20autor_autorizatii/haosul_dreptului_de_autor.pdf" TargetMode="External"/><Relationship Id="rId9" Type="http://schemas.openxmlformats.org/officeDocument/2006/relationships/hyperlink" Target="file:///Imagini_sunete/Drepturi%20de%20autor_autorizatii/haosul_dreptului_de_autor.pdf" TargetMode="External"/><Relationship Id="rId10" Type="http://schemas.openxmlformats.org/officeDocument/2006/relationships/hyperlink" Target="file:///Imagini_sunete/Drepturi%20de%20autor_autorizatii/haosul_dreptului_de_autor.pdf" TargetMode="External"/><Relationship Id="rId11" Type="http://schemas.openxmlformats.org/officeDocument/2006/relationships/hyperlink" Target="file:///Imagini_sunete/Drepturi%20de%20autor_autorizatii/haosul_dreptului_de_autor.pdf" TargetMode="External"/><Relationship Id="rId12" Type="http://schemas.openxmlformats.org/officeDocument/2006/relationships/hyperlink" Target="file:///Imagini_sunete/Drepturi%20de%20autor_autorizatii/RESURSE%20PENTRU%20DREPTURILE%20DE%20AUTOR.doc" TargetMode="External"/><Relationship Id="rId13" Type="http://schemas.openxmlformats.org/officeDocument/2006/relationships/hyperlink" Target="file:///../Imagini_sunete/Drepturi_de%20autor_autorizatii/chestionar_drepturi_autor.doc" TargetMode="External"/><Relationship Id="rId14" Type="http://schemas.openxmlformats.org/officeDocument/2006/relationships/hyperlink" Target="file:///../Imagini_sunete/Drepturi_de%20autor_autorizatii/chestionar_drepturi_autor.doc" TargetMode="External"/><Relationship Id="rId15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ffcc00"/>
                </a:solidFill>
                <a:latin typeface="Garamond"/>
              </a:rPr>
              <a:t>Proi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G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sesc destina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ţ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ia turistic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 ideal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ă</a:t>
            </a:r>
            <a:r>
              <a:rPr b="1" i="1" lang="en-US" sz="4000" spc="-1" strike="noStrike">
                <a:solidFill>
                  <a:srgbClr val="ff0066"/>
                </a:solidFill>
                <a:latin typeface="Monotype Corsiva"/>
              </a:rPr>
              <a:t> pentru vacan</a:t>
            </a:r>
            <a:r>
              <a:rPr b="1" i="1" lang="ro-RO" sz="4000" spc="-1" strike="noStrike">
                <a:solidFill>
                  <a:srgbClr val="ff0066"/>
                </a:solidFill>
                <a:latin typeface="Monotype Corsiva"/>
              </a:rPr>
              <a:t>ţ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cc66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iniţial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formativ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valuare sumativ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Bibliograf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Valentina Capotă, Florica Popa, Cristina Ghinescu</a:t>
            </a: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, Marketingul afacerii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– manual clasa a XI – a Ruta directă, clasa a XII – a Ruta progresivă, Editura Akademos Art, 200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Suzana Ilie, </a:t>
            </a: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Marketingul afacerilor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– manual clasa a XI – a, Editura Oscar Print, 200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Nicolae Paina,</a:t>
            </a: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Pop, Marius D</a:t>
            </a: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., </a:t>
            </a:r>
            <a:r>
              <a:rPr b="1" i="1" lang="fr-FR" sz="1600" spc="-1" strike="noStrike">
                <a:solidFill>
                  <a:srgbClr val="ffffff"/>
                </a:solidFill>
                <a:latin typeface="Garamond"/>
              </a:rPr>
              <a:t>Cercetări de marketing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, Cluj-Napoca, Presa Universitară Clujeană, 1997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Kotler, Philip, 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Managementul marketingului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ucureşti, Editura Teora, Bucureşti, 1997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Kotler, Philip, </a:t>
            </a:r>
            <a:r>
              <a:rPr b="1" i="1" lang="fr-FR" sz="1600" spc="-1" strike="noStrike">
                <a:solidFill>
                  <a:srgbClr val="ffffff"/>
                </a:solidFill>
                <a:latin typeface="Garamond"/>
              </a:rPr>
              <a:t>Principiile marketingului. </a:t>
            </a:r>
            <a:r>
              <a:rPr b="1" lang="fr-FR" sz="1600" spc="-1" strike="noStrike">
                <a:solidFill>
                  <a:srgbClr val="ffffff"/>
                </a:solidFill>
                <a:latin typeface="Garamond"/>
              </a:rPr>
              <a:t>Bucureşti, Editura Teora, 1998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insse.ro/cms/rw/pages/index.ro.d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etingpower.com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etingpower.com/content1051.ph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markmedia.ro/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admaker.ro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http://www.wik.is</a:t>
            </a: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Garamond"/>
              </a:rPr>
              <a:t>Vă las plăcerea să căutaţi...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Garamond"/>
              </a:rPr>
              <a:t>Diverse site-uri în domeniu pe Interne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Proiect</a:t>
            </a:r>
            <a:r>
              <a:rPr b="0" i="1" lang="ro-RO" sz="4400" spc="-1" strike="noStrike">
                <a:solidFill>
                  <a:srgbClr val="ffcc00"/>
                </a:solidFill>
                <a:latin typeface="Arial"/>
              </a:rPr>
              <a:t> 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isciplina </a:t>
            </a:r>
            <a:r>
              <a:rPr b="0" i="1" lang="ro-RO" sz="3200" spc="-1" strike="noStrike">
                <a:solidFill>
                  <a:srgbClr val="ff0066"/>
                </a:solidFill>
                <a:latin typeface="Arial"/>
              </a:rPr>
              <a:t>Marketingul aface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lasa 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a XI-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itatea de învăţare: </a:t>
            </a:r>
            <a:r>
              <a:rPr b="0" i="1" lang="ro-RO" sz="3200" spc="-1" strike="noStrike">
                <a:solidFill>
                  <a:srgbClr val="ff0066"/>
                </a:solidFill>
                <a:latin typeface="Arial"/>
              </a:rPr>
              <a:t>Cercetarea de marketing şi nevoile clienţi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ofesor: </a:t>
            </a:r>
            <a:r>
              <a:rPr b="0" i="1" lang="ro-RO" sz="2400" spc="-1" strike="noStrike">
                <a:solidFill>
                  <a:srgbClr val="ffcc00"/>
                </a:solidFill>
                <a:latin typeface="Arial"/>
              </a:rPr>
              <a:t>Ramona Bătina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Unitatea şcolară: </a:t>
            </a:r>
            <a:r>
              <a:rPr b="0" i="1" lang="ro-RO" sz="2400" spc="-1" strike="noStrike">
                <a:solidFill>
                  <a:srgbClr val="ffcc00"/>
                </a:solidFill>
                <a:latin typeface="Arial"/>
              </a:rPr>
              <a:t>Colegiul “Emil Negruţiu” Tu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66ff99"/>
                </a:solidFill>
                <a:latin typeface="Monotype Corsiva"/>
              </a:rPr>
              <a:t>Avantajele învăţării prin metoda proiectului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metodă care  se poate aplica la diferite arii tematice, la clase diferite şi la mai multe niveluri de studi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implicarea elevilor în roluri active, cum ar fi: rezolvarea de probleme, luarea deciziei, investigare, document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elevii se află în centrul procesului de instrui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iectul se axează pe obiective operaţionale aliniate competenţelor specifice sau obiectivelor de referinţ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iectul implică metode de evaluare multiple şi contin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sarcinile de lucru şi activităţile corelate se desfăşoară într-o anumită perioadă de ti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conexiunea cu lumea real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elevii îşi demonstrează cunoştinţele şi competenţele prin intermediul produselor care sunt publicate, prezentate sau afiş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ocesul de învăţare este îmbunătăţit prin folosirea tehnologie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strategiile variate de instruire sprijină diverse stiluri de învăţ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dezvoltarea competenţelor pentru lumea reală, corespunzătoare secolului XX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cc00"/>
                </a:solidFill>
                <a:latin typeface="Arial"/>
              </a:rPr>
              <a:t>Competenţe necesare secolului XX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ompetenţe de comunicare -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reativitate şi curiozitate intelectual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Dezvoltarea, implementarea şi comunicarea ideilor noi altor persoane; deschidere şi receptivitate la nou, perspective variat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Gândire critică şi gândire sistemic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Exersarea gândirii în ce priveşte înţelegerea şi realizarea unor alegeri complexe; înţelegerea conexiunilor dintre sistem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nformaţii şi abilităţi media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Analizarea, accesarea, administrarea, integrarea, evaluarea, şi crearea de informaţii în diverse forme şi medi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sponsabilitate şi capacitate de adaptare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Exersarea responsabilităţii personale şi a flexibilităţii în contexte legate de propria persoană, loc de muncă şi comunitate; stabilirea şi atingerea unor standarde şi ţeluri ridicate  pentru sine şi pentru ceilalţi; tolerarea ambiguităţi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Capacităţi de colaborare şi interpersonale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Identificarea, formularea şi soluţionarea problemelor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capacitatea de a depista, formula, analiza şi rezolva probleme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Auto-formare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Monitorizarea propriilor nevoi de înţelegere şi învăţare; localizarea resurselor corespunzătoare; transferul cunoştinţelor dintr-un domeniu în altu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Verdana"/>
              </a:rPr>
              <a:t>Responsabilitate socială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— Acţionarea în mod responsabil, ţinând cont de interesele comunităţii; demonstrarea unui comportament etic în contexte legate de propria persoană, loc de muncă şi comunita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Rectangle 2"/>
          <p:cNvSpPr/>
          <p:nvPr/>
        </p:nvSpPr>
        <p:spPr>
          <a:xfrm>
            <a:off x="1523880" y="5932800"/>
            <a:ext cx="6400800" cy="4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100" spc="-1" strike="noStrike" baseline="30000">
                <a:solidFill>
                  <a:srgbClr val="003b76"/>
                </a:solidFill>
                <a:latin typeface="Verdana"/>
                <a:ea typeface="Times New Roman"/>
              </a:rPr>
              <a:t>1</a:t>
            </a:r>
            <a:r>
              <a:rPr b="1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Sursă:</a:t>
            </a:r>
            <a:r>
              <a:rPr b="0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 Parteneriat pentru competenţele secolului XXI (</a:t>
            </a:r>
            <a:r>
              <a:rPr b="0" lang="ro-RO" sz="11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.21stcenturyskills.org</a:t>
            </a:r>
            <a:r>
              <a:rPr b="0" lang="ro-RO" sz="1100" spc="-1" strike="noStrike">
                <a:solidFill>
                  <a:srgbClr val="003b76"/>
                </a:solidFill>
                <a:latin typeface="Verdana"/>
                <a:ea typeface="Times New Roman"/>
              </a:rPr>
              <a:t>). Utilizat cu permisiun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99"/>
                </a:solidFill>
                <a:latin typeface="Arial"/>
              </a:rPr>
              <a:t>Rezultate aştept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levii trebuie să fie capabi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identifice minim 3 surse de informare primare şi secundare legate de tema de  cercet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investigheze măcar o sursă primară si secundară de informare pentru a selecta informaţii utile temei de cercet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analizeze şi să selecteze din metodele de cercetare  cunoscute  – minim 2 -  cele mai eficient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elaboreze un chestionar pentru o cercetare de marketing propusă care să cuprindă cel putin 15 întrebări, de cel puţin 3 tipur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analizeze  şi să interpreteze datele/ opiniile obţinute prin : grafice, diagrame, scale, utilizând  Microsoft Exce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sintetizeze şi interpreteze  datele, informaţiile şi graficele prin care sunt exprimate opiniile elevilor utilizând resursele electronice neces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Să elaboreze concluzii şi soluţii la problema identificată şi cercetată folosind tehnologia I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Întrebările cheie ale curriculumulu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16" name="Dreptunghi rotunjit 2"/>
          <p:cNvGrpSpPr/>
          <p:nvPr/>
        </p:nvGrpSpPr>
        <p:grpSpPr>
          <a:xfrm>
            <a:off x="395280" y="1773360"/>
            <a:ext cx="2247840" cy="884160"/>
            <a:chOff x="395280" y="1773360"/>
            <a:chExt cx="2247840" cy="884160"/>
          </a:xfrm>
        </p:grpSpPr>
        <p:pic>
          <p:nvPicPr>
            <p:cNvPr id="1117" name="Dreptunghi rotunjit 2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2247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488880" y="1843200"/>
              <a:ext cx="2060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area esenţial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9" name="Dreptunghi rotunjit 4"/>
          <p:cNvGrpSpPr/>
          <p:nvPr/>
        </p:nvGrpSpPr>
        <p:grpSpPr>
          <a:xfrm>
            <a:off x="250920" y="3068640"/>
            <a:ext cx="2322360" cy="1023840"/>
            <a:chOff x="250920" y="3068640"/>
            <a:chExt cx="2322360" cy="1023840"/>
          </a:xfrm>
        </p:grpSpPr>
        <p:pic>
          <p:nvPicPr>
            <p:cNvPr id="1120" name="Dreptunghi rotunjit 4" descr=""/>
            <p:cNvPicPr/>
            <p:nvPr/>
          </p:nvPicPr>
          <p:blipFill>
            <a:blip r:embed="rId2"/>
            <a:stretch/>
          </p:blipFill>
          <p:spPr>
            <a:xfrm>
              <a:off x="250920" y="3068640"/>
              <a:ext cx="23223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349200" y="3206520"/>
              <a:ext cx="212688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ările unitatăţii de învăţ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2" name="Dreptunghi rotunjit 5"/>
          <p:cNvGrpSpPr/>
          <p:nvPr/>
        </p:nvGrpSpPr>
        <p:grpSpPr>
          <a:xfrm>
            <a:off x="250920" y="4941720"/>
            <a:ext cx="2247840" cy="884160"/>
            <a:chOff x="250920" y="4941720"/>
            <a:chExt cx="2247840" cy="884160"/>
          </a:xfrm>
        </p:grpSpPr>
        <p:pic>
          <p:nvPicPr>
            <p:cNvPr id="1123" name="Dreptunghi rotunjit 5" descr=""/>
            <p:cNvPicPr/>
            <p:nvPr/>
          </p:nvPicPr>
          <p:blipFill>
            <a:blip r:embed="rId3"/>
            <a:stretch/>
          </p:blipFill>
          <p:spPr>
            <a:xfrm>
              <a:off x="250920" y="4941720"/>
              <a:ext cx="2247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344520" y="5014800"/>
              <a:ext cx="20606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66"/>
                  </a:solidFill>
                  <a:latin typeface="Calibri"/>
                </a:rPr>
                <a:t>Întrebări de conţin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Rectangle 1"/>
          <p:cNvGrpSpPr/>
          <p:nvPr/>
        </p:nvGrpSpPr>
        <p:grpSpPr>
          <a:xfrm>
            <a:off x="3419640" y="1773360"/>
            <a:ext cx="4741560" cy="627120"/>
            <a:chOff x="3419640" y="1773360"/>
            <a:chExt cx="4741560" cy="627120"/>
          </a:xfrm>
        </p:grpSpPr>
        <p:pic>
          <p:nvPicPr>
            <p:cNvPr id="1126" name="Rectangle 1" descr=""/>
            <p:cNvPicPr/>
            <p:nvPr/>
          </p:nvPicPr>
          <p:blipFill>
            <a:blip r:embed="rId4"/>
            <a:stretch/>
          </p:blipFill>
          <p:spPr>
            <a:xfrm>
              <a:off x="3419640" y="1773360"/>
              <a:ext cx="4741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492360" y="1883880"/>
              <a:ext cx="45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88dc"/>
                  </a:solidFill>
                  <a:latin typeface="Tahoma"/>
                </a:rPr>
                <a:t>De ce merg oamenii în vacanţă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128" name="Conector drept cu săgeată 9"/>
          <p:cNvCxnSpPr/>
          <p:nvPr/>
        </p:nvCxnSpPr>
        <p:spPr>
          <a:xfrm flipV="1">
            <a:off x="2627280" y="2059920"/>
            <a:ext cx="83880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  <p:grpSp>
        <p:nvGrpSpPr>
          <p:cNvPr id="1129" name="Rectangle 3"/>
          <p:cNvGrpSpPr/>
          <p:nvPr/>
        </p:nvGrpSpPr>
        <p:grpSpPr>
          <a:xfrm>
            <a:off x="3265560" y="4292640"/>
            <a:ext cx="5878080" cy="2206440"/>
            <a:chOff x="3265560" y="4292640"/>
            <a:chExt cx="5878080" cy="2206440"/>
          </a:xfrm>
        </p:grpSpPr>
        <p:pic>
          <p:nvPicPr>
            <p:cNvPr id="1130" name="Rectangle 3" descr=""/>
            <p:cNvPicPr/>
            <p:nvPr/>
          </p:nvPicPr>
          <p:blipFill>
            <a:blip r:embed="rId5"/>
            <a:stretch/>
          </p:blipFill>
          <p:spPr>
            <a:xfrm>
              <a:off x="3265560" y="4292640"/>
              <a:ext cx="58780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3344400" y="4480560"/>
              <a:ext cx="56955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e sunt cercetările de marketing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stabilesc obiectivele unei cercetari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are sunt fazele şi etapele unei cercetări de marketing 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e metode pot fi folosite pentru o cercetare a pieţei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are este metodologia de elaborare a unui chestionar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putem stabili mărimea unui eşantion şi care sunt metodele de extragere a acestuia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88dc"/>
                  </a:solidFill>
                  <a:latin typeface="Tahoma"/>
                </a:rPr>
                <a:t>Cum realizez raportul final al unei cercetari de marketing</a:t>
              </a:r>
              <a:r>
                <a:rPr b="1" lang="ro-RO" sz="1400" spc="-1" strike="noStrike">
                  <a:solidFill>
                    <a:srgbClr val="afe1ff"/>
                  </a:solidFill>
                  <a:latin typeface="Tahoma"/>
                </a:rPr>
                <a:t>?</a:t>
              </a:r>
              <a:r>
                <a:rPr b="0" lang="en-US" sz="1400" spc="-1" strike="noStrike">
                  <a:solidFill>
                    <a:srgbClr val="afe1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Rectangle 3"/>
          <p:cNvGrpSpPr/>
          <p:nvPr/>
        </p:nvGrpSpPr>
        <p:grpSpPr>
          <a:xfrm>
            <a:off x="3265560" y="2924280"/>
            <a:ext cx="5878080" cy="1125360"/>
            <a:chOff x="3265560" y="2924280"/>
            <a:chExt cx="5878080" cy="1125360"/>
          </a:xfrm>
        </p:grpSpPr>
        <p:pic>
          <p:nvPicPr>
            <p:cNvPr id="1133" name="Rectangle 3" descr=""/>
            <p:cNvPicPr/>
            <p:nvPr/>
          </p:nvPicPr>
          <p:blipFill>
            <a:blip r:embed="rId6"/>
            <a:stretch/>
          </p:blipFill>
          <p:spPr>
            <a:xfrm>
              <a:off x="3265560" y="2924280"/>
              <a:ext cx="587808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3344400" y="3021840"/>
              <a:ext cx="569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88dc"/>
                  </a:solidFill>
                  <a:latin typeface="Tahoma"/>
                </a:rPr>
                <a:t>Cum am putea realiza o cercetare a intereselor elevilor din şcoala noastră cu privire la destinaţia turistică preferată pentru vacanţă</a:t>
              </a:r>
              <a:r>
                <a:rPr b="1" lang="ro-RO" sz="1800" spc="-1" strike="noStrike">
                  <a:solidFill>
                    <a:srgbClr val="afe1ff"/>
                  </a:solidFill>
                  <a:latin typeface="Tahoma"/>
                </a:rPr>
                <a:t>?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135" name="Conector drept cu săgeată 10"/>
          <p:cNvCxnSpPr/>
          <p:nvPr/>
        </p:nvCxnSpPr>
        <p:spPr>
          <a:xfrm>
            <a:off x="2556000" y="3500280"/>
            <a:ext cx="76248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136" name="Conector drept cu săgeată 9"/>
          <p:cNvCxnSpPr/>
          <p:nvPr/>
        </p:nvCxnSpPr>
        <p:spPr>
          <a:xfrm flipV="1">
            <a:off x="2484000" y="5157720"/>
            <a:ext cx="839160" cy="766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Finalitatea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IECTULUI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portofoliului pentru unitatea de învăţ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rezentarea proiectului realiz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unui site wiki</a:t>
            </a: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o-RO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marketingcen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lizarea unui blog</a:t>
            </a: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o-RO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mkrb.21class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88dc"/>
                </a:solidFill>
                <a:latin typeface="Arial"/>
              </a:rPr>
              <a:t>Conţinutul portofolil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planul unităţii de învăţ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planul de implementare al unităţii de învăţ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exemplu din perspectiva elevul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drepturi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val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bibliograf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Drepturi de aut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Ce este dreptul de autor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Ghid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educa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ţ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ional de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utili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z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are</a:t>
            </a: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a dreptului de a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Resurse pentru drepturile de autor; utilizarea materialelor referitoare la drepturile de a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Test – Legea dreptului de autor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5:23:17Z</dcterms:created>
  <dc:creator>ramona</dc:creator>
  <dc:description/>
  <dc:language>en-US</dc:language>
  <cp:lastModifiedBy>ramona</cp:lastModifiedBy>
  <dcterms:modified xsi:type="dcterms:W3CDTF">2010-06-12T18:09:28Z</dcterms:modified>
  <cp:revision>11</cp:revision>
  <dc:subject/>
  <dc:title>Proi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